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A90-4129-4402-B46F-D9F7970D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26E1-59A5-44A8-8619-4B28841C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308-4B13-464E-9AAC-32687D6B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94E-D65D-4630-8DA1-B4D9792A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C774-1F97-4963-AE9E-00115663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9A0D-2D50-4696-A20F-F23FBB24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E485-4A3A-4817-982F-6E080D54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C2A5-0F12-4453-B059-E1285FD4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2AF6-5EF7-4F83-AC60-421BDA70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5723-7C68-466B-9CE7-C607722C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6C72-F0F4-408B-9AC6-396E8A28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6E8-82BC-4892-8081-47F374B5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393A-EBB6-4BE3-867B-550E5AB4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D84A-DD7B-4A1A-82F3-9D63C037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8022-E6B2-4C9C-A600-76473BB9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6A2C-A16F-49CB-980B-C08EE4CE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82EA-0B80-492C-AF4D-F94F5521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2E2-E546-4006-A2A7-14209991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90A9-8625-478F-8454-D6A55D4B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A4B-2E2A-42F9-89B6-DCAE5BF0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91B-3655-4908-B775-630C87CC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C29-EBDD-4447-B65D-630B03D9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6A4-4781-479E-BE6E-FF3256A6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063-5960-4125-AF10-D1655190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3F52-EEAF-4DA2-A7AF-0931C22BA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67E3-057A-42FA-94F5-F20E64B40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Much Money</a:t>
            </a:r>
            <a:br>
              <a:rPr sz="44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Grades 3 and 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ins and a banker to let students decide what they want to know about vocabular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w Much Money</a:t>
            </a:r>
            <a:br>
              <a:rPr sz="44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he Skinn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class into two teams and designate a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students coins for vocabulary knowledge, you may want to start with one or two coins at the begi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ny= word read correc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ckel= word read and spelled correc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me= word read, spelled and defined correc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rter= word read, spelled, defined, and used in a sentence correc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llar= word read, spelled, defined, used in a sentence, and acted out correc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s is a students turn, the student selects the level of difficul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the word up for 5 to 10 second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udent keeps the money for the team if he or she can answer correc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44:52Z</dcterms:created>
  <dc:creator>Ann Weeks</dc:creator>
  <dc:description/>
  <dc:language>en-US</dc:language>
  <cp:lastModifiedBy>Ann Weeks</cp:lastModifiedBy>
  <dcterms:modified xsi:type="dcterms:W3CDTF">2008-06-29T15:31:30Z</dcterms:modified>
  <cp:revision>7</cp:revision>
  <dc:subject/>
  <dc:title>Phone A Friend A vocabulary game from Mentoring Minds</dc:title>
</cp:coreProperties>
</file>